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360" y="-10939680"/>
            <a:ext cx="360" cy="2326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10B83-2270-495E-86E4-68BE552966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036320"/>
            <a:ext cx="8226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396B9-0DB0-4A44-BD22-5A790F0F8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036320"/>
            <a:ext cx="4014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4036320"/>
            <a:ext cx="4014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C83A7-986C-4083-8E6B-5F0F5AF9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036320"/>
            <a:ext cx="264852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4036320"/>
            <a:ext cx="264852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4036320"/>
            <a:ext cx="264852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EC455-BE60-4376-84D3-5DEE841566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55894-E541-4A7A-B594-E63844794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CB046-A692-48E6-A6DD-C08C76D07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CBA7B-77B5-4D4F-961D-AC262FC8A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95F6B-0354-49F6-BDB4-100C975C7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47520"/>
            <a:ext cx="8226360" cy="73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9B33E-A980-4C03-96B5-9A6022484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036320"/>
            <a:ext cx="4014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AC14F-8ECF-46A3-9CAD-A0AB21213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4036320"/>
            <a:ext cx="4014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B429F-C09C-4028-A8E6-18EFC964B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036320"/>
            <a:ext cx="8226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FE28E-426A-4C89-97AA-D033CBAFD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47520"/>
            <a:ext cx="8226360" cy="15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5720" indent="-31572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87960" indent="-26280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87880" indent="-21240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13040" indent="-21240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13040" indent="-21240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13040" indent="-21240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3CB5D3-4E71-4CE9-B1C2-E93022720720}" type="slidenum">
              <a:rPr b="0" lang="en-GB" sz="1200" spc="-1" strike="noStrike">
                <a:solidFill>
                  <a:srgbClr val="898989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2"/>
          <p:cNvSpPr/>
          <p:nvPr/>
        </p:nvSpPr>
        <p:spPr>
          <a:xfrm>
            <a:off x="2340000" y="270036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262699"/>
                </a:solidFill>
                <a:latin typeface="Arial"/>
                <a:ea typeface="Arial"/>
              </a:rPr>
              <a:t>I CONGRESSO EUROPEO DEGLI AGRONOMI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262699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262699"/>
                </a:solidFill>
                <a:latin typeface="Arial"/>
                <a:ea typeface="Arial"/>
              </a:rPr>
              <a:t>11-12 NOVEMBRE 2014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262699"/>
                </a:solidFill>
                <a:latin typeface="Arial"/>
                <a:ea typeface="Arial"/>
              </a:rPr>
              <a:t>BRUXELL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2"/>
          <p:cNvSpPr/>
          <p:nvPr/>
        </p:nvSpPr>
        <p:spPr>
          <a:xfrm>
            <a:off x="2340000" y="270036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PATROCINI – ORGANIZZAZION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NAF -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onsiglio Nazionale dei Dottori Agronomi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e dei Dottori Forestali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EDIA - Confédération Européenne des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ngénieurs Agronome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VIV - Royal Flemish Society of Engineers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Immagine 3" descr="conaf_LOGO"/>
          <p:cNvPicPr/>
          <p:nvPr/>
        </p:nvPicPr>
        <p:blipFill>
          <a:blip r:embed="rId2"/>
          <a:stretch/>
        </p:blipFill>
        <p:spPr>
          <a:xfrm>
            <a:off x="7236000" y="3517920"/>
            <a:ext cx="1258560" cy="541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archivi 01 lavori in corso\arch-x ord\2014\14 CEDIA\00 logo\cedia[1].jpg"/>
          <p:cNvPicPr/>
          <p:nvPr/>
        </p:nvPicPr>
        <p:blipFill>
          <a:blip r:embed="rId3"/>
          <a:stretch/>
        </p:blipFill>
        <p:spPr>
          <a:xfrm>
            <a:off x="7451640" y="4492800"/>
            <a:ext cx="720720" cy="664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archivi 01 lavori in corso\arch-x ord\2014\09 I Congresso Europeo\kviv_ie-net-banner-trans_0.png"/>
          <p:cNvPicPr/>
          <p:nvPr/>
        </p:nvPicPr>
        <p:blipFill>
          <a:blip r:embed="rId4"/>
          <a:srcRect l="0" t="0" r="73758" b="0"/>
          <a:stretch/>
        </p:blipFill>
        <p:spPr>
          <a:xfrm>
            <a:off x="7308720" y="5373720"/>
            <a:ext cx="1150920" cy="638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"/>
          <p:cNvSpPr/>
          <p:nvPr/>
        </p:nvSpPr>
        <p:spPr>
          <a:xfrm>
            <a:off x="2340000" y="270036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PATROCINI – ORGANIZZAZION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Représentation Permanente d'Italie auprès de l'Union Européenn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Presidenza del Consiglio dell'Unione Europea (semestre italiano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Ministero Politiche Agricole Alimentari e Forestali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Consiglio agricolo dell'Unione Europea (10 - 11 novembre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2"/>
          <p:cNvSpPr/>
          <p:nvPr/>
        </p:nvSpPr>
        <p:spPr>
          <a:xfrm>
            <a:off x="2340000" y="270036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Arial"/>
              </a:rPr>
              <a:t>CEDIA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585e0"/>
                </a:solidFill>
                <a:latin typeface="Arial"/>
                <a:ea typeface="Arial"/>
              </a:rPr>
              <a:t>Confédération Européenne des  Ingénieurs Agronome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8585e0"/>
                </a:solidFill>
                <a:latin typeface="Arial"/>
                <a:ea typeface="Arial"/>
              </a:rPr>
              <a:t>European Confederation of Agronomists Association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Fondata il 23 giugno 1987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Organizzazione no–profit 13 ottobre 1996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aesi fondatori : Germania, Francia, Italia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aesi membri: Cipro, Danimarca, Francia, Germania, Grecia, Irlanda, Irlanda del Nord, Italia, Portogallo, Spagna , Svizzera, Regno Unito,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2"/>
          <p:cNvSpPr/>
          <p:nvPr/>
        </p:nvSpPr>
        <p:spPr>
          <a:xfrm>
            <a:off x="2340000" y="2700360"/>
            <a:ext cx="6480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2800" indent="-442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Arial"/>
              </a:rPr>
              <a:t>CONTENUTI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442800" indent="-442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442800" indent="-442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I Partenariati Europei per l'Innovazione (PEI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442800" indent="-442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La direttiva qualifiche professionali e la tessera professionale europea (EPC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442800" indent="-442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Il Piano di Sviluppo Rura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442800" indent="-442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VI Congresso Mondiale degli Agronomi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442800" indent="-442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EXPO2015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442800" indent="-442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442800" indent="-442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Mostra fotografica sui paesaggi rurali tipici europei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442800" indent="-442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Mostra sulla storia del paesaggio agricolo naziona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442800" indent="-442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Presentazione eccellenze agroalimentari italian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442800" indent="-442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442800" indent="-442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442800" indent="-442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442800" indent="-442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442800" indent="-442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442800" indent="-442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tente1</dc:creator>
  <dc:description/>
  <dc:language>en-US</dc:language>
  <cp:lastModifiedBy>utente1</cp:lastModifiedBy>
  <dcterms:modified xsi:type="dcterms:W3CDTF">2014-03-05T09:50:34Z</dcterms:modified>
  <cp:revision>10</cp:revision>
  <dc:subject/>
  <dc:title>Diapositiva 1</dc:title>
</cp:coreProperties>
</file>