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0939680"/>
            <a:ext cx="360" cy="232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0282-7876-460E-94FF-0D485341A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A453-68AB-476B-B05A-F6CADFFF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BF79-E59F-4995-BF08-9601EA69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A83E-F6DD-4208-9B8D-D9181BD3F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5760-3FDA-43BA-A48F-8C3F762B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23F5-0788-488E-971A-7092FAF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D950-3D4D-413A-AD9D-57E3D3CF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167E-5061-44ED-8F59-B931EBDE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ACB3-00DF-45DC-935F-FD764F9F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70DA-EACA-4448-A654-47DD936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2540-68CE-4BC6-95CA-BE4D3F29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5376-10EC-4E0B-AFFE-8B825C4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364C3-3441-4AA8-A8F9-1A42532A120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I CONGRESSO EUROPEO DEGLI AGRONOM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11-12 NOVEMBRE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BRUXEL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AF 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siglio Nazionale dei Dottori Agronom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dei Dottori Forest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DIA - Confédération Européenne d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VIV - Royal Flemish Society of Engineer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Immagine 3" descr="conaf_LOGO"/>
          <p:cNvPicPr/>
          <p:nvPr/>
        </p:nvPicPr>
        <p:blipFill>
          <a:blip r:embed="rId2"/>
          <a:stretch/>
        </p:blipFill>
        <p:spPr>
          <a:xfrm>
            <a:off x="7236000" y="3517920"/>
            <a:ext cx="1258560" cy="54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archivi 01 lavori in corso\arch-x ord\2014\14 CEDIA\00 logo\cedia[1].jpg"/>
          <p:cNvPicPr/>
          <p:nvPr/>
        </p:nvPicPr>
        <p:blipFill>
          <a:blip r:embed="rId3"/>
          <a:stretch/>
        </p:blipFill>
        <p:spPr>
          <a:xfrm>
            <a:off x="7451640" y="4492800"/>
            <a:ext cx="720720" cy="66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archivi 01 lavori in corso\arch-x ord\2014\09 I Congresso Europeo\kviv_ie-net-banner-trans_0.png"/>
          <p:cNvPicPr/>
          <p:nvPr/>
        </p:nvPicPr>
        <p:blipFill>
          <a:blip r:embed="rId4"/>
          <a:srcRect l="0" t="0" r="73758" b="0"/>
          <a:stretch/>
        </p:blipFill>
        <p:spPr>
          <a:xfrm>
            <a:off x="7308720" y="5373720"/>
            <a:ext cx="11509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ation Permanente d'Italie auprès de l'Union Européen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idenza del Consiglio dell'Unione Europea (semestre itali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inistero Politiche Agricole Alimentari e Forestal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siglio agricolo dell'Unione Europea (10 - 11 novembr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ED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585e0"/>
                </a:solidFill>
                <a:latin typeface="Arial"/>
                <a:ea typeface="Arial"/>
              </a:rPr>
              <a:t>Confédération Européenne des  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European Confederation of Agronomists Associat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ndata il 23 giugno 1987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ganizzazione no–profit 13 ottobre 1996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fondatori : Germania, Francia, Ital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membri: Cipro, Danimarca, Francia, Germania, Grecia, Irlanda, Irlanda del Nord, Italia, Portogallo, Spagna , Svizzera, Regno Unito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 Partenariati Europei per l'Innovazione (PE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a direttiva qualifiche professionali e la tessera professionale europea (EPC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l Piano di Sviluppo Ru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VI Congresso Mondiale degli Agronom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EXPO201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fotografica sui paesaggi rurali tipici europe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sulla storia del paesaggio agricolo nazion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zione eccellenze agroalimentari italia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1</dc:creator>
  <dc:description/>
  <dc:language>en-US</dc:language>
  <cp:lastModifiedBy>utente1</cp:lastModifiedBy>
  <dcterms:modified xsi:type="dcterms:W3CDTF">2014-03-05T09:50:34Z</dcterms:modified>
  <cp:revision>10</cp:revision>
  <dc:subject/>
  <dc:title>Diapositiva 1</dc:title>
</cp:coreProperties>
</file>